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9EC-18CE-43BE-80FD-6BB7B117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12E-48E6-4432-A925-9E63A0F7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335-6343-4CC6-BD2E-344B7F43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748-4125-41ED-ADE6-74364E64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7E0-FEA6-495F-B99D-FAEF45F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F3A-FD73-455D-81C5-45D3B29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AA6-DBF1-4891-BA24-7AB3268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43D-F709-4DE9-90D9-88C1C047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017-A353-418D-B318-0C0D843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FC4-382B-4A3B-A684-6CA9262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9CE-9087-40A1-83B4-7E312D8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1BD-5478-4B63-8DDD-B11F575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6D4-3945-4B6E-A97C-D2182636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25360"/>
            <a:ext cx="7775280" cy="25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urlz MT"/>
              </a:rPr>
              <a:t>Colour Mix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Curlz MT"/>
              <a:ea typeface="Curlz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824360" cy="313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5049720"/>
            <a:ext cx="1366560" cy="1320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1168200" cy="112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008200">
            <a:off x="826560" y="3357720"/>
            <a:ext cx="808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780000" y="333000"/>
            <a:ext cx="1800000" cy="3166920"/>
          </a:xfrm>
          <a:prstGeom prst="triangle">
            <a:avLst>
              <a:gd name="adj" fmla="val 5167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92360" cy="1976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042000">
            <a:off x="5140080" y="2646360"/>
            <a:ext cx="1735200" cy="316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77800">
            <a:off x="4751280" y="429228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19631400">
            <a:off x="5364000" y="981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8042000">
            <a:off x="5140080" y="2646360"/>
            <a:ext cx="1735200" cy="316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773360"/>
            <a:ext cx="57600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19953 C 0.01875 -0.19953 0.03143 -0.18333 0.03143 -0.16296 C 0.03143 -0.14259 0.01875 -0.12592 0.00382 -0.12592 C -0.01163 -0.12592 -0.02343 -0.14259 -0.02343 -0.16296 C -0.02343 -0.18333 -0.01163 -0.19953 0.00382 -0.19953 Z">
                                      <p:cBhvr>
                                        <p:cTn id="7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007800">
            <a:off x="5220360" y="2709000"/>
            <a:ext cx="1657440" cy="3097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0238000">
            <a:off x="5148000" y="692280"/>
            <a:ext cx="4392360" cy="197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773360"/>
            <a:ext cx="7923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21527 C 0.01458 -0.21527 0.0276 -0.19907 0.0276 -0.17893 C 0.0276 -0.15856 0.01458 -0.14166 -0.00018 -0.14166 C -0.01563 -0.14166 -0.02743 -0.15856 -0.02743 -0.17893 C -0.02743 -0.19907 -0.01563 -0.21527 -0.00018 -0.21527 Z">
                                      <p:cBhvr>
                                        <p:cTn id="8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18868200">
            <a:off x="5451120" y="120816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77336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1527 C 0.01753 -0.21527 0.03073 -0.19907 0.03073 -0.1787 C 0.03073 -0.15833 0.01753 -0.14166 0.00139 -0.14166 C -0.01476 -0.14166 -0.02743 -0.15833 -0.02743 -0.1787 C -0.02743 -0.19907 -0.01476 -0.21527 0.00139 -0.21527 Z">
                                      <p:cBhvr>
                                        <p:cTn id="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flipH="1" rot="19508400">
            <a:off x="0" y="436536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1700280"/>
            <a:ext cx="57636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36000" y="1341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7275000">
            <a:off x="2450880" y="1157040"/>
            <a:ext cx="1650960" cy="3168720"/>
          </a:xfrm>
          <a:prstGeom prst="triangle">
            <a:avLst>
              <a:gd name="adj" fmla="val 5520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 flipH="1" rot="1968600">
            <a:off x="-541080" y="907560"/>
            <a:ext cx="43927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1993 C 0.01892 -0.1993 0.03142 -0.1831 0.03142 -0.1625 C 0.03142 -0.14212 0.01892 -0.12546 0.00382 -0.12546 C -0.01128 -0.12546 -0.02361 -0.14212 -0.02361 -0.1625 C -0.02361 -0.1831 -0.01128 -0.1993 0.00382 -0.1993 Z">
                                      <p:cBhvr>
                                        <p:cTn id="9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 flipH="1" rot="1362000">
            <a:off x="-324360" y="549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12000" y="1700280"/>
            <a:ext cx="7923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21505 C 0.01493 -0.21505 0.0276 -0.19885 0.0276 -0.17825 C 0.0276 -0.15811 0.01493 -0.14144 5.55556E-007 -0.14144 C -0.01528 -0.14144 -0.02743 -0.15811 -0.02743 -0.17825 C -0.02743 -0.19885 -0.01528 -0.21505 5.55556E-007 -0.21505 Z">
                                      <p:cBhvr>
                                        <p:cTn id="10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 rot="2731800">
            <a:off x="-668160" y="12078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1700280"/>
            <a:ext cx="792360" cy="79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2472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21505 C 0.01753 -0.21505 0.03056 -0.19746 0.03056 -0.1757 C 0.03056 -0.15394 0.01753 -0.13612 0.00156 -0.13612 C -0.01458 -0.13612 -0.02743 -0.15394 -0.02743 -0.1757 C -0.02743 -0.19746 -0.01458 -0.21505 0.00156 -0.21505 Z">
                                      <p:cBhvr>
                                        <p:cTn id="10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0" y="4653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9528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941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8868200">
            <a:off x="5235480" y="3123720"/>
            <a:ext cx="4392360" cy="19764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528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4508640"/>
            <a:ext cx="57600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368 C 0.01893 0.1368 0.0316 0.15254 0.0316 0.17314 C 0.0316 0.19328 0.01893 0.21041 0.00365 0.21041 C -0.01145 0.21041 -0.02343 0.19328 -0.02343 0.17314 C -0.02343 0.15254 -0.01145 0.1368 0.00365 0.1368 Z">
                                      <p:cBhvr>
                                        <p:cTn id="11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flipH="1" rot="2731800">
            <a:off x="-381240" y="3052440"/>
            <a:ext cx="4392720" cy="1976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66764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56720" y="4508640"/>
            <a:ext cx="576000" cy="57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2472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1368 C 0.01077 0.1368 0.02361 0.153 0.02361 0.17314 C 0.02361 0.19351 0.01077 0.21041 -0.00434 0.21041 C -0.01979 0.21041 -0.03142 0.19351 -0.03142 0.17314 C -0.03142 0.153 -0.01979 0.1368 -0.00434 0.1368 Z">
                                      <p:cBhvr>
                                        <p:cTn id="11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085600">
            <a:off x="1056600" y="291168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18880800">
            <a:off x="1127880" y="272304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676600">
            <a:off x="1332000" y="256500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891600">
            <a:off x="1618920" y="256536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685600">
            <a:off x="1763280" y="270828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4488600">
            <a:off x="1919880" y="291204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4:06:57Z</dcterms:created>
  <dc:creator>jrosenberg</dc:creator>
  <dc:description/>
  <dc:language>en-US</dc:language>
  <cp:lastModifiedBy>jrosenberg</cp:lastModifiedBy>
  <dcterms:modified xsi:type="dcterms:W3CDTF">2009-02-01T16:46:07Z</dcterms:modified>
  <cp:revision>7</cp:revision>
  <dc:subject/>
  <dc:title>Slide 1</dc:title>
</cp:coreProperties>
</file>